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F51-64A0-4370-B2B6-9E72A44E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E02-A197-4E45-9FA7-6E1D9861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8A7-370F-4B96-8C9A-71C3299B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EA2-E8CE-4562-867A-32835045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682C-3753-4F3A-BE37-6F8984B6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2CC2-ED6C-4B60-9F9C-82E9FE0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292-655B-489E-9F96-C2E3BEA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9B58-CAFC-4B3F-8DDA-9532194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CE5C-9236-4BA6-B2EC-31C822FB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481-0806-4455-99AE-83E43D86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BBC8-1FC5-489C-AA3C-EAE77466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AC2-E886-43CF-B3B4-1EE622D8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D6B4-F6A5-4AD3-88C6-07B5959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D406-E8BB-47DF-B0E4-2E78CF4D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1910-BC72-4992-AD1B-D133EE7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2823-37E9-42E2-B9EF-CC5983D4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BE6-2BAC-4B08-9EBB-88C65EBF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A35-6F02-44E2-BC77-9EED66A8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6C3-08EA-4764-B97D-77D71A7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7D8-84B9-4FE5-9BC2-600492B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90C-04EB-425D-84D2-5CE13723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4D2-36A2-44E5-9971-E0220F3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899-BB19-4791-BDDC-7AF4896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899-B60F-4690-A69E-9E88653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2E42-2A48-4A4B-94D5-CFC2704BF3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EED-F125-4234-8714-0F657E9353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ahoma"/>
              </a:rPr>
              <a:t>Причастие как часть реч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Автор проек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Андрей Д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Причастие — самостоятельная часть речи либо (в зависимости от точки зрения) особая форма глагола, которая обладает свойствами как глагола, так и имени прилагательного. Обозначает признак предмета по действию и отвечает на вопросы какой?, что делающий?, что делавший?, что сделавший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88331"/>
          <p:cNvPicPr/>
          <p:nvPr/>
        </p:nvPicPr>
        <p:blipFill>
          <a:blip r:embed="rId1"/>
          <a:stretch/>
        </p:blipFill>
        <p:spPr>
          <a:xfrm>
            <a:off x="1332000" y="390600"/>
            <a:ext cx="655308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зад 2"/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Каковы признаки причастия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3481334"/>
          <p:cNvPicPr/>
          <p:nvPr/>
        </p:nvPicPr>
        <p:blipFill>
          <a:blip r:embed="rId1"/>
          <a:stretch/>
        </p:blipFill>
        <p:spPr>
          <a:xfrm>
            <a:off x="1692360" y="333360"/>
            <a:ext cx="5213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ризнаки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ричас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339640" y="1413000"/>
            <a:ext cx="1152360" cy="100800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580000" y="1341360"/>
            <a:ext cx="1368360" cy="107964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869800" y="2494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73800" y="2494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1116000" y="2995560"/>
            <a:ext cx="285840" cy="649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357336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ремя (настоящее и прошло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979640" y="2997360"/>
            <a:ext cx="0" cy="1800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050920" y="357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ид (совершенный и несоверш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00000" y="4797360"/>
            <a:ext cx="22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озвратная 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411280" y="2997360"/>
            <a:ext cx="43200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5724360" y="2997360"/>
            <a:ext cx="214560" cy="57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500720" y="3645000"/>
            <a:ext cx="26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Окончания прилагатель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056360" y="335772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зменяются по числам, родам и</a:t>
            </a:r>
            <a:r>
              <a:rPr b="0" lang="ru-RU" sz="1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адеж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7667640" y="2924280"/>
            <a:ext cx="217440" cy="57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0" y="1268280"/>
            <a:ext cx="0" cy="453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7164360" y="2924280"/>
            <a:ext cx="0" cy="2017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932360" y="4869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 предложении чаще всего бывают определ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22"/>
          <p:cNvSpPr/>
          <p:nvPr/>
        </p:nvSpPr>
        <p:spPr>
          <a:xfrm rot="5400000">
            <a:off x="4212000" y="1411920"/>
            <a:ext cx="792360" cy="8569080"/>
          </a:xfrm>
          <a:custGeom>
            <a:avLst/>
            <a:gdLst>
              <a:gd name="textAreaLeft" fmla="*/ 0 w 792360"/>
              <a:gd name="textAreaRight" fmla="*/ 286200 w 79236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062520" y="61675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 по действ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Роль причастия в словосочета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 flipH="1">
            <a:off x="2268360" y="1844640"/>
            <a:ext cx="719280" cy="57636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6156360" y="1773360"/>
            <a:ext cx="647640" cy="57600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39640" y="342900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Способность иметь при себе зависимое существительное или нареч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сущ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нар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Group 27"/>
          <p:cNvGrpSpPr/>
          <p:nvPr/>
        </p:nvGrpSpPr>
        <p:grpSpPr>
          <a:xfrm>
            <a:off x="1763640" y="5805360"/>
            <a:ext cx="287280" cy="216000"/>
            <a:chOff x="1763640" y="5805360"/>
            <a:chExt cx="287280" cy="216000"/>
          </a:xfrm>
        </p:grpSpPr>
        <p:sp>
          <p:nvSpPr>
            <p:cNvPr id="130" name="Line 28"/>
            <p:cNvSpPr/>
            <p:nvPr/>
          </p:nvSpPr>
          <p:spPr>
            <a:xfrm>
              <a:off x="1763640" y="580536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763640" y="580536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1763640" y="5084640"/>
            <a:ext cx="287280" cy="216000"/>
            <a:chOff x="1763640" y="5084640"/>
            <a:chExt cx="287280" cy="216000"/>
          </a:xfrm>
        </p:grpSpPr>
        <p:sp>
          <p:nvSpPr>
            <p:cNvPr id="133" name="Line 31"/>
            <p:cNvSpPr/>
            <p:nvPr/>
          </p:nvSpPr>
          <p:spPr>
            <a:xfrm>
              <a:off x="1763640" y="508464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 flipH="1">
              <a:off x="1763640" y="508464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Text Box 33"/>
          <p:cNvSpPr/>
          <p:nvPr/>
        </p:nvSpPr>
        <p:spPr>
          <a:xfrm>
            <a:off x="4716360" y="337644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Зависят от существительного и согласуются с ним в роде, числе и падеже в словосочетаниях тип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972360" y="2492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2124000" y="2924280"/>
            <a:ext cx="0" cy="5047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>
            <a:off x="7020000" y="2924280"/>
            <a:ext cx="0" cy="5047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868720" y="24922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изнаки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5724720" y="56610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сущ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39"/>
          <p:cNvGrpSpPr/>
          <p:nvPr/>
        </p:nvGrpSpPr>
        <p:grpSpPr>
          <a:xfrm>
            <a:off x="6156360" y="5445000"/>
            <a:ext cx="287280" cy="216000"/>
            <a:chOff x="6156360" y="5445000"/>
            <a:chExt cx="287280" cy="216000"/>
          </a:xfrm>
        </p:grpSpPr>
        <p:sp>
          <p:nvSpPr>
            <p:cNvPr id="142" name="Line 40"/>
            <p:cNvSpPr/>
            <p:nvPr/>
          </p:nvSpPr>
          <p:spPr>
            <a:xfrm>
              <a:off x="6156360" y="544500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41"/>
            <p:cNvSpPr/>
            <p:nvPr/>
          </p:nvSpPr>
          <p:spPr>
            <a:xfrm flipH="1">
              <a:off x="6156360" y="544500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111"/>
          <p:cNvPicPr/>
          <p:nvPr/>
        </p:nvPicPr>
        <p:blipFill>
          <a:blip r:embed="rId1"/>
          <a:stretch/>
        </p:blipFill>
        <p:spPr>
          <a:xfrm>
            <a:off x="1258920" y="189000"/>
            <a:ext cx="6664320" cy="648000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назад 2"/>
          <p:cNvSpPr/>
          <p:nvPr/>
        </p:nvSpPr>
        <p:spPr>
          <a:xfrm>
            <a:off x="842976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В какой речи чаще употребляются причасти? Почему?</a:t>
            </a:r>
            <a:r>
              <a:rPr b="0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lessonb"/>
          <p:cNvPicPr/>
          <p:nvPr/>
        </p:nvPicPr>
        <p:blipFill>
          <a:blip r:embed="rId1"/>
          <a:stretch/>
        </p:blipFill>
        <p:spPr>
          <a:xfrm>
            <a:off x="1476360" y="125280"/>
            <a:ext cx="648036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742680" y="620640"/>
            <a:ext cx="309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Устная</a:t>
            </a: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50920" y="19162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Я увидел лошадь, которая бежала по мостов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71640" y="620640"/>
            <a:ext cx="42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исьменная реч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08680" y="1916280"/>
            <a:ext cx="41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Я увидел лошадь, бегущую по мосто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5400000">
            <a:off x="3522600" y="-490320"/>
            <a:ext cx="1871640" cy="8415360"/>
          </a:xfrm>
          <a:custGeom>
            <a:avLst/>
            <a:gdLst>
              <a:gd name="textAreaLeft" fmla="*/ 0 w 1871640"/>
              <a:gd name="textAreaRight" fmla="*/ 675720 w 1871640"/>
              <a:gd name="textAreaTop" fmla="*/ 219240 h 8415360"/>
              <a:gd name="textAreaBottom" fmla="*/ 8196120 h 841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68360" y="479736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частия чаще употребляются в письменной речи, т.к. служат для ее сокращения и придают тексту книжный сти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Н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каки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вопросы я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отвечу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 чем различие устной и письменной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Что такое причас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Каковы признаки причаст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 какой речи чаще употребляются причастия?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5209"/>
          <p:cNvPicPr/>
          <p:nvPr/>
        </p:nvPicPr>
        <p:blipFill>
          <a:blip r:embed="rId1"/>
          <a:stretch/>
        </p:blipFill>
        <p:spPr>
          <a:xfrm>
            <a:off x="1332000" y="185760"/>
            <a:ext cx="7056360" cy="653112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назад 2"/>
          <p:cNvSpPr/>
          <p:nvPr/>
        </p:nvSpPr>
        <p:spPr>
          <a:xfrm>
            <a:off x="8501040" y="614376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57184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пределение причас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Р.Н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Бунеев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Е.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Бунеев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Русски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язык 6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Ресурсы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ervoklassnik"/>
          <p:cNvPicPr/>
          <p:nvPr/>
        </p:nvPicPr>
        <p:blipFill>
          <a:blip r:embed="rId1"/>
          <a:stretch/>
        </p:blipFill>
        <p:spPr>
          <a:xfrm>
            <a:off x="1692360" y="0"/>
            <a:ext cx="565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В чем различие устной и письменной реч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90565465"/>
          <p:cNvPicPr/>
          <p:nvPr/>
        </p:nvPicPr>
        <p:blipFill>
          <a:blip r:embed="rId1"/>
          <a:stretch/>
        </p:blipFill>
        <p:spPr>
          <a:xfrm>
            <a:off x="395280" y="419040"/>
            <a:ext cx="82803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imes New Roman"/>
              </a:rPr>
              <a:t>В отличии от устной письменная речь более точная, предложения полные, ясные; предложения в письменной речи логично связаны между собой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r121660244955973"/>
          <p:cNvPicPr/>
          <p:nvPr/>
        </p:nvPicPr>
        <p:blipFill>
          <a:blip r:embed="rId1"/>
          <a:stretch/>
        </p:blipFill>
        <p:spPr>
          <a:xfrm>
            <a:off x="1403280" y="333360"/>
            <a:ext cx="626580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назад 2"/>
          <p:cNvSpPr/>
          <p:nvPr/>
        </p:nvSpPr>
        <p:spPr>
          <a:xfrm>
            <a:off x="8358120" y="607212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Что</a:t>
            </a:r>
            <a:r>
              <a:rPr b="0" lang="ru-RU" sz="6000" spc="-1" strike="noStrike">
                <a:solidFill>
                  <a:srgbClr val="33cc33"/>
                </a:solidFill>
                <a:latin typeface="Tahoma"/>
              </a:rPr>
              <a:t> такое причастие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student"/>
          <p:cNvPicPr/>
          <p:nvPr/>
        </p:nvPicPr>
        <p:blipFill>
          <a:blip r:embed="rId1"/>
          <a:stretch/>
        </p:blipFill>
        <p:spPr>
          <a:xfrm>
            <a:off x="1258920" y="189000"/>
            <a:ext cx="71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3:24Z</dcterms:created>
  <dc:creator>Алан</dc:creator>
  <dc:description/>
  <dc:language>en-US</dc:language>
  <cp:lastModifiedBy>студент</cp:lastModifiedBy>
  <dcterms:modified xsi:type="dcterms:W3CDTF">2011-04-13T05:20:57Z</dcterms:modified>
  <cp:revision>14</cp:revision>
  <dc:subject/>
  <dc:title>Причастие как часть ре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